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5BF-1A8E-4E88-A870-447032D6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43F-3B62-4483-A468-4DD38C3F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E80-C9C2-468E-842B-D34D732D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FF2-2FE7-48E9-A454-65CCFB7D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2FC6-8500-41F2-A757-D5294624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9A1D-9061-4233-8D79-AB00A38E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6534-3A4C-4572-9B9A-64AC35AA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9CF-9F3F-487B-8D79-E2B517C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DC0E-D7F7-4D0D-AC52-8ED6FC54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FAA8-1858-432B-8B54-0E9B6EB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4E4-6288-49B6-8BDE-A3A9B5E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7C1-1F6E-44A2-A252-38CF26E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D9C-67D8-4DC8-A61E-8100DAE2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6BBB-61F4-4CB6-9927-4A53DCB7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0B37-4F70-4492-B95E-1BFDE91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EE75-041D-4DB1-8FF8-2ED5E97E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101C-0693-4CFE-AF6C-3A1F23BE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007-7DBB-4F8B-8CD3-6E1FB56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AB3-8B21-47CB-A28E-0DEEAFC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066-0A97-4BDF-BC4E-56013F7C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DAF-5616-4F6D-9EF9-ACEAB8A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83E-FE5D-4E6F-9848-C1718CA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659-8E12-4927-94A3-B9DBF55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BE5-86A8-4BF9-98A8-F08F470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D92A-DFBF-46D9-9022-6A9C99BC1D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BAA-C782-4C70-B1AB-BF22776FBF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userguides/ret/User_Guide-Clean_10-10-06.doc" TargetMode="External"/><Relationship Id="rId2" Type="http://schemas.openxmlformats.org/officeDocument/2006/relationships/hyperlink" Target="http://www.ercot.com/services/userguides/ret/User_Guide-Clean_10-10-06.doc" TargetMode="External"/><Relationship Id="rId3" Type="http://schemas.openxmlformats.org/officeDocument/2006/relationships/hyperlink" Target="http://www.ercot.com/services/userguides/ret/User_Guide-Clean_10-10-06.doc" TargetMode="External"/><Relationship Id="rId4" Type="http://schemas.openxmlformats.org/officeDocument/2006/relationships/hyperlink" Target="http://www.ercot.com/services/userguides/ret/User_Guide-Clean_10-10-06.doc" TargetMode="External"/><Relationship Id="rId5" Type="http://schemas.openxmlformats.org/officeDocument/2006/relationships/hyperlink" Target="http://www.ercot.com/services/training/Retail_Market_Participant_Workshop.html" TargetMode="External"/><Relationship Id="rId6" Type="http://schemas.openxmlformats.org/officeDocument/2006/relationships/hyperlink" Target="http://www.ercot.com/services/userguides/ret/User_Guide-Clean_10-10-06.doc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cember 5, 200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vember 1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and 15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inalized MarkeTrak Detailed Requirements Document. This was signed off and submitted on November 16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vised the requirements that would be required for Market Testing – high level . To be discussed at TTPT in Decemb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leted the prioritization of the Requirement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t meeting schedule for the remainder of the Planning phas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January 10th and 11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January 24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February 7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February 21st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6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20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27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vember 1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and 1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nt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on items from our last meeting:   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r’s Guide to be reviewed by individual shops based on Market Participant assignment.  Please provide comments/suggestions about updating the User’s guide to the current functionality of the tool as well as suggestions on how we should incorporate phase 2 requirements to the User’s guid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k to MarkeTrak webpag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ttp://www.ercot.com/services/client_svcs/mktrk_info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arkeTrak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 User Guide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P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lease review training document.  All input will be    greatly appreciated (enhancements, areas to focus on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k to MarkeTrak Retail Market Participant training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http://www.ercot.com/services/training/Retail_Market_Participant_Workshop.html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 -  labeled as December 2007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rkeTrak Task Force 2007 Accomplish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nalized the MarkeTrak Detailed Requirements Document which included 47 requirements. Submitted ahead of schedul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ted the high level MarketTest requirements for Market Tes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 our aggressive Requirements schedule which included 11 CR’s,4 TDSP’s and SME’s from ERCOT.  Since the formation of the Task Force on July 30th,  we had 14 meetings covering 3 1/2 month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Use Case format prove to be very successful for ERCOT and Market Participants  This new tool assisted ERCOT and Market Participants with writing and developing the detailed requirements documentatio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rkeTrak Task Forc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008 Goa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ccessful implementation of the detailed requirements – MT phase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 efficiencies within the tool where necessar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and Restructure User’s Gu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and Restructure User Training where applica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ok into a Web Based Training for MarkeTra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ext Meeting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anuary 10 and 11t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cation – Dallas, TX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sted by ONCOR (Downtown)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ceptual Design Review will be presented by ERCOT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utline initial training plan.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view User’s Guide -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ents/suggestions about updating the User’s guide to the current functionality of the tool as well as suggestions on how we should incorporate Phase 2 requirements into the User’s guid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CenterPoint Energy</cp:lastModifiedBy>
  <dcterms:modified xsi:type="dcterms:W3CDTF">2007-11-28T17:55:36Z</dcterms:modified>
  <cp:revision>17</cp:revision>
  <dc:subject/>
  <dc:title>MarkeTrak Task Force</dc:title>
</cp:coreProperties>
</file>